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8AE-BDEB-4424-A3E8-DF0EC132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5ED-6CFC-4893-B696-E33C9F0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5C4-1755-48E1-8941-3719A1F3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B49-69D8-4D0C-89B3-6CF783F1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287-54EC-4380-99AB-3614D8C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010-CFDC-4E0F-A943-0FD501D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D80-FE5D-4C73-8273-B276610C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921-6F1F-432E-9DC6-CCBC4D6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473-A73D-4D3B-8DCE-9834675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1E4-BD99-4300-BA14-F66DAAD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CA2-7AA4-4C6A-A1AA-3A05509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2EA-C7EA-44B7-8C83-13E943E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3B29-30EC-40B4-A2B7-EB318D233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1 bya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Your Ticket to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i_enroute_3breakaway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: Scholarship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Finance: ready for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c Responsibility: ready for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ior “Stuff” (stadium picture, Grad Night, class meeting, senior class gif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ally, your farewell to C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3breakaway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ior Class G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ior class gift is a gift to the school to say “thank you” and to leave a legacy from your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ast senior gifts have included: a flag, a bench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would you like your legacy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Your Advisory teacher will submit your list of ideas to Student Government, there will be more information in future advisories about voting on the gift, and fund rai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3:06:43Z</dcterms:created>
  <dc:creator>admin</dc:creator>
  <dc:description/>
  <dc:language>en-US</dc:language>
  <cp:lastModifiedBy>ASD</cp:lastModifiedBy>
  <dcterms:modified xsi:type="dcterms:W3CDTF">2011-06-06T17:09:07Z</dcterms:modified>
  <cp:revision>3</cp:revision>
  <dc:subject/>
  <dc:title>Senior Class Advisory</dc:title>
</cp:coreProperties>
</file>